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825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219-5456-4774-B6A6-2D1A457F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807-AF50-4325-B5F3-3426E7C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04A-F148-401E-A5FC-0FD834D3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470-DFA7-4456-9DAA-83C4B88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035-D5F4-423F-AD4E-DF083AC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240-9707-4EC7-9364-D6F0765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E7B-AE1A-497F-B120-E959AE3E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AB8-BEED-42F3-8CA0-E7EB918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29760"/>
            <a:ext cx="91440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552-9867-4619-B41E-ADB21641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88F-517E-4BE0-AD73-CE1AB62F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79D-D404-4673-B729-9940AC1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5CE-667E-4242-8719-EC9806F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651440"/>
            <a:ext cx="3216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D52-D365-43EF-98BB-5E5701F47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7840" y="291960"/>
            <a:ext cx="34542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Opinion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Tracking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Push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Exit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Margin of Erro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lipboard(16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12600" y="25560"/>
            <a:ext cx="1018368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lipboard(17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160" y="101520"/>
            <a:ext cx="994572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lipboard(18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65240" y="-25560"/>
            <a:ext cx="9801000" cy="357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lipboard(19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3746520"/>
            <a:ext cx="9385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lipboard(2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0760" y="533520"/>
            <a:ext cx="101599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lipboard(22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35040" y="101520"/>
            <a:ext cx="9012240" cy="66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lipboard(2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87320" y="241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lipboard(24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143000" y="63360"/>
            <a:ext cx="7656480" cy="376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lipboard(25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092240" y="3987720"/>
            <a:ext cx="78073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ipboard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3360" y="203040"/>
            <a:ext cx="972684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ipboard(2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920" y="190440"/>
            <a:ext cx="8543880" cy="3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lipboard(3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079640" y="673200"/>
            <a:ext cx="1231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ipboard(4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160" y="241200"/>
            <a:ext cx="9435960" cy="153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787320" y="2133720"/>
            <a:ext cx="51055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1. Health Car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2. Climate Chang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3. War in Afghanista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4. Government Spend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ipboard(7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0760" y="203040"/>
            <a:ext cx="755028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lipboard(8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65160" y="762120"/>
            <a:ext cx="1906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ipboard(9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14480" y="304920"/>
            <a:ext cx="98074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ipboard(10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01520" y="266760"/>
            <a:ext cx="98362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ipboard(1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2280" y="241200"/>
            <a:ext cx="9550440" cy="52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lipboard(12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27000" y="1015920"/>
            <a:ext cx="20019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lipboard(1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2280" y="266760"/>
            <a:ext cx="9599760" cy="26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lipboard(15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01800" y="698400"/>
            <a:ext cx="13334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8:28:27Z</dcterms:created>
  <dc:creator>Brent J. Freccia</dc:creator>
  <dc:description/>
  <dc:language>en-US</dc:language>
  <cp:lastModifiedBy>Brent J. Freccia</cp:lastModifiedBy>
  <dcterms:modified xsi:type="dcterms:W3CDTF">2010-01-26T18:28:32Z</dcterms:modified>
  <cp:revision>1</cp:revision>
  <dc:subject/>
  <dc:title>Slide 1</dc:title>
</cp:coreProperties>
</file>